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37D-49A0-4704-8C65-E50FF2B6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7A2-CEFB-488E-99A9-D8D40AF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988-CE4D-4D71-9C4E-D2E579CB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C42-A19C-42DB-BC63-89676D3F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12E-2E03-460C-811E-FD7CEE21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F1E-C935-4B8E-9085-E76D09E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44D-D293-420B-A8A7-B0CD209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1E4-30E3-4F45-88FC-88C0025C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1C5-30F5-4E36-950F-E83BF9AD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04C-2CDB-4885-B5BE-FB63291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D89-5D5D-4DD6-A587-0E11C33A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ECE-2238-43EF-A8D3-123453B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EEC9-9FAD-4C9A-97E1-E5B28DC1B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09B1-D6F9-4615-B887-CF3CACF4B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eamgalileo.wikispaces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amgalileo.wikispaces.com/Skills+Workshop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tere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ty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ty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Blog, Wiki, Presentation, photo, story, hand out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a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cribe your team project topic and explain the different s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ction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ptions Tr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a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a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Wiki, Presentation, photo, video, letter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you think your greatest achievement was this term?  What are you most proud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ill you be a different learner next term? What things will you do differently in clas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s there anything you would like to improve on next term? What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learning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your learning goals at the start of the ter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improved on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st the Trails you have been on this term (some of these are listed at: 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mgalileo.wikispaces.com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Trai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Blog, Wiki, Presentation, photo, story, hand out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kills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st the Skills Workshops you have done this term (a list of these are can be found here: 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mgalileo.wikispaces.com/Skills+Workshop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blic Spe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st 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kills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kills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Blog, Wiki, Presentation, photo, story, hand out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ty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cribe what you did at Community Service and what school you were 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2:55:12Z</dcterms:created>
  <dc:creator>mbobeff</dc:creator>
  <dc:description/>
  <dc:language>en-US</dc:language>
  <cp:lastModifiedBy>Mollie Bobeff</cp:lastModifiedBy>
  <dcterms:modified xsi:type="dcterms:W3CDTF">2010-03-24T03:55:47Z</dcterms:modified>
  <cp:revision>5</cp:revision>
  <dc:subject/>
  <dc:title>Name</dc:title>
</cp:coreProperties>
</file>